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015C-E41C-4640-8466-7C0EC09F42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3835-8A74-4EF7-8E30-9BD5148DF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3C71-D6EC-43BE-94CC-88A4410C7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04E9-C4BA-420B-965B-E316F62AA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4F52-22D7-4962-A9FE-7C8C35EA0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A5DF-BCBE-4D73-925E-7B345549B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C364-B13A-4ABB-9FD1-FD38E7A95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59C7-EC5A-4B3F-BC29-94F54C308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4501-08A4-4CC5-81EE-99F5F89C9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6B25-5E68-45BF-B5B2-70C3B06F2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D809-6D22-436D-B429-4C2E72721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616-4411-4466-9A2A-95FC7B95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278-7A21-4BF1-A838-F78558EC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4F7-9E0F-4CED-9D57-B8A2FC73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ED3-A96F-46C0-AB8B-5F0FA815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1E5A-B8BD-4D6A-8781-BE625EA5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056D-AB9D-457B-97AB-E9FA149A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A262-5703-42DE-A6DE-45239A3F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89D3-90DC-436A-A500-E0404F87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BB1B-16A5-4F9A-BCCD-7BE9B386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30D6-8F33-47C7-A5CF-835C3821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DB25-64BC-404D-9EE2-BB586169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B7B-BA9C-48C3-90A1-886EB823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A71C-8ECF-4A6F-A7C4-137C999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A7F6-E58C-4533-94B2-EF9D43D5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5BEF-22C4-4B30-9A12-8F2CF7CF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B7D3-2F9F-4F5A-A2B9-835CEAEA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B900-993B-40FD-9E04-BB255902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B267-684A-4FEB-9BD7-0BDAD655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6A2D-3DF9-4EC9-8B60-E93F7A63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87F23-9DC9-4568-804F-7932AED1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D7EF-3F1C-41D4-AD47-4F3733D0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C7E3F-7A05-4CAD-B65E-FDE3E0A5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792-B902-4D8F-AB66-CA4658B9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32EFF-FF88-4F6A-BD34-98A3695B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E63A-A463-4B5B-8D77-2F4DCC6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3B4C-2ABB-4C0C-83E6-63303371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1CA3-80AB-46D5-8655-AF782D44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EB50-B0DC-4E3C-B563-6AECDDB7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2A2C-37AD-48F2-91BB-0820D99D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481C-B2AF-45E4-8D8F-59AA954D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0B9-34ED-46AB-9939-8CD50B16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9B4-A49A-4552-B74A-A3D06F3B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702-CBE4-4B9A-86F3-9B898D60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EAB-5A9B-4C78-B1C7-40BD49C5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F36-A019-4097-9996-2D14414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0A7-5236-4C9C-9B16-E3A367C5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0B35-67E2-4C8D-B536-F65C1D0ED93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642C-1069-48BC-A6CB-BEA5BDB654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3B22-30B9-479C-8473-CCF7305650E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dsovet.su/load/320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1000080" y="1428840"/>
            <a:ext cx="692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жные предлож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разными видами связ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1143000" y="1441080"/>
            <a:ext cx="750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не рождения у дочери оказалось так много гостей (1) что Анна Дмитриевна забеспокоилась (2) и (3) когда нужно было приглашать  молодёжь за стол (4) то она ещё раз мысленно пересчитала приготовленные приб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428840" y="415116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) 1,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) 3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) 1, 2,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) 1,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1000080" y="571680"/>
            <a:ext cx="7715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 пунктуацион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сте каких цифр нужно поставить запят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1214280" y="1785960"/>
            <a:ext cx="6072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Шаблон презентаций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pedsovet.su/load/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1500120" y="1428840"/>
            <a:ext cx="5357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езентаци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болева Ольга Серге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русского языка и литера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КОУ Клеванцовская 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900000" y="785880"/>
            <a:ext cx="756144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синтаксического анализа сложных предложений с разными видами связ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ершенствовать навык постановки знаков препинания    в сложных синтаксических конструкц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4"/>
          <p:cNvSpPr/>
          <p:nvPr/>
        </p:nvSpPr>
        <p:spPr>
          <a:xfrm>
            <a:off x="3000240" y="4429080"/>
            <a:ext cx="5072040" cy="928800"/>
          </a:xfrm>
          <a:prstGeom prst="rect">
            <a:avLst/>
          </a:prstGeom>
          <a:solidFill>
            <a:srgbClr val="f2e4d6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1000080" y="4429080"/>
            <a:ext cx="1066680" cy="928800"/>
          </a:xfrm>
          <a:prstGeom prst="rect">
            <a:avLst/>
          </a:prstGeom>
          <a:solidFill>
            <a:srgbClr val="f2e4d6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000080" y="442908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[   ]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[   ],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(когда), (что)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000080" y="642960"/>
            <a:ext cx="76438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жные синтаксические констру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сочинением и под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ина стало клонить ко сну (1), и он обрадовался (2), когда в дверях появился шофёр и доложил (3), что машина гот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4"/>
          <p:cNvSpPr/>
          <p:nvPr/>
        </p:nvSpPr>
        <p:spPr>
          <a:xfrm>
            <a:off x="5072040" y="4429080"/>
            <a:ext cx="1357200" cy="928800"/>
          </a:xfrm>
          <a:prstGeom prst="rect">
            <a:avLst/>
          </a:prstGeom>
          <a:solidFill>
            <a:srgbClr val="f2e4d6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1285920" y="4429080"/>
            <a:ext cx="3357360" cy="928800"/>
          </a:xfrm>
          <a:prstGeom prst="rect">
            <a:avLst/>
          </a:prstGeom>
          <a:solidFill>
            <a:srgbClr val="f2e4d6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85920" y="442908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[   ]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а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[   ]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[   ]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71680" y="714240"/>
            <a:ext cx="8072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жные синтаксические конструкции с сочинительной и бессоюзной связ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у меня в другую часть (1), да я от поезда отстал (2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й (3), думаю (4), погляжу на свой взвод и своего лейтена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4"/>
          <p:cNvSpPr/>
          <p:nvPr/>
        </p:nvSpPr>
        <p:spPr>
          <a:xfrm>
            <a:off x="4929120" y="4643280"/>
            <a:ext cx="1357560" cy="928800"/>
          </a:xfrm>
          <a:prstGeom prst="rect">
            <a:avLst/>
          </a:prstGeom>
          <a:solidFill>
            <a:srgbClr val="f2e4d6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1214280" y="4643280"/>
            <a:ext cx="3357720" cy="928800"/>
          </a:xfrm>
          <a:prstGeom prst="rect">
            <a:avLst/>
          </a:prstGeom>
          <a:solidFill>
            <a:srgbClr val="f2e4d6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1214280" y="4643280"/>
            <a:ext cx="514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[   ]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когда);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[   ]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642960" y="50004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жные синтаксические конструкции с подчинительной  и бессоюзной связ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 грохотал над крышей (1), гулко возрастая и разражаясь треском (2), когда мелькала красноватая молния (3); от нависших туч темн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4"/>
          <p:cNvSpPr/>
          <p:nvPr/>
        </p:nvSpPr>
        <p:spPr>
          <a:xfrm>
            <a:off x="2382840" y="4929120"/>
            <a:ext cx="5546880" cy="928800"/>
          </a:xfrm>
          <a:prstGeom prst="rect">
            <a:avLst/>
          </a:prstGeom>
          <a:solidFill>
            <a:srgbClr val="f2e4d6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1000080" y="4929120"/>
            <a:ext cx="979560" cy="928800"/>
          </a:xfrm>
          <a:prstGeom prst="rect">
            <a:avLst/>
          </a:prstGeom>
          <a:solidFill>
            <a:srgbClr val="f2e4d6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1000080" y="492912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[   ]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[   ]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(что (если), то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71680" y="500040"/>
            <a:ext cx="81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жные синтаксические конструкции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чинительной и бессоюзной связ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 трепетом ждал ответа Грушницкого(1); холодная злость овладевала мной при мысли (2), что если б не случай (3), то я мог бы сделаться посмешищем этих дура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000080" y="165096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ов медленно шёл по шоссе (1) и (2) пока глядел на волшебный пожар заката (3) ему чудилось (4) будто за яркой зарёй  существует какая-то таинственная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428840" y="415116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) 1, 2, 3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) 2,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) 1, 2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) 1, 3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000080" y="5716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 пунктуацион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сте каких цифр нужно поставить запят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1071720" y="1509840"/>
            <a:ext cx="764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вётел подёрнулись сединой (1) и (2) когда поднимался ветер (3) на поверхности озера вздувались мелкие короткие волны (4)  как будто сердились на приближавшуюся зи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428840" y="415116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) 1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) 1, 2, 3,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) 1, 2,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) 2,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1143000" y="571680"/>
            <a:ext cx="7643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 пунктуацион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сте каких цифр нужно поставить запят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1071720" y="1366200"/>
            <a:ext cx="75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казать так (1) чтобы вас слушали и понимали (2) есть великое умение (3) которое даётся весьма немногим (4) и (5) которым никто не имеет права пренебре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357200" y="422280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) 1, 2,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) 3, 4,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) 1, 3,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) 1, 2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071720" y="571680"/>
            <a:ext cx="7643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 пунктуацион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сте каких цифр нужно поставить запят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28:35Z</dcterms:created>
  <dc:creator>Toshiba</dc:creator>
  <dc:description/>
  <dc:language>en-US</dc:language>
  <cp:lastModifiedBy>Ольга</cp:lastModifiedBy>
  <dcterms:modified xsi:type="dcterms:W3CDTF">2015-03-10T16:36:07Z</dcterms:modified>
  <cp:revision>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